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2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5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2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7875-A2C0-4073-B6ED-08FE9C2F5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CCB-99F2-4C23-BC2A-C43B728F4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8F1-4E04-4F90-90A2-2CDDD52B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11FD-0F20-4F36-A3CE-08395F61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1E5B-13E3-4AE7-923E-C855B0B0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8E42-5D24-458A-AFFF-683FFB7E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9458-2A98-4DC5-9873-64CFEE0F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6C91-85BD-4C0C-A741-E68D21F2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08C-4E36-4486-8A66-A7AD2B2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04C-90CC-43EC-AE4C-3320007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F0B0-7E6E-4E06-870B-6664F6E2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F466-79C5-43FA-834D-7C22AD0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DA0-C582-40C6-9C32-AD68E24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4B8B-7DF9-4F84-9CCF-F2C3B88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AFF4-E77C-42D7-8DCB-E545EEC9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BDFF-A847-429C-A0C1-C8418F6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BD9-CD36-4602-81AD-BCCBCC3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6687-18B1-45B0-B90C-C86FECD2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372A-4722-4353-A59D-3850411B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5C1-69DE-4D76-80D4-518BCC7D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EA60-37DB-4B2F-A99D-F50C739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28EA-5DB3-4A21-AFD2-8329DA6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0EED-E3E9-4E0C-93A4-02BBF2A7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524F-97AD-4170-A645-58D7F90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B668-6A56-4FCF-838B-B1A5122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7B27-327B-4AA9-B36D-FE96B157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BC29-6643-419A-83DE-6A7E639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1C1D-6F8B-49D6-A1F1-727B687B0C3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57E-C0DE-4C16-B08E-2A0A2529E356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1167-3774-4EF1-9B96-8F69A3C7611D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369-A1B9-4213-80E9-DA801FC3626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TRIKS_WP3_-_NCBO%20and%20CDISC_Landscape_-_draft_130115%20(1).xls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sg.doc.ic.ac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1440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uropean Translational Research Information and KM Services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(eTRIKS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rof Yike Guo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Department of Computing Imperial College London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DEE6-A9FF-4066-ABC2-C1B7E41189D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TRIKS"/>
          <p:cNvPicPr/>
          <p:nvPr/>
        </p:nvPicPr>
        <p:blipFill>
          <a:blip r:embed="rId1"/>
          <a:stretch/>
        </p:blipFill>
        <p:spPr>
          <a:xfrm>
            <a:off x="3019320" y="236520"/>
            <a:ext cx="3000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rcRect l="1900" t="4267" r="-1896" b="0"/>
          <a:stretch/>
        </p:blipFill>
        <p:spPr>
          <a:xfrm>
            <a:off x="395280" y="2571840"/>
            <a:ext cx="3790800" cy="327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173808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-BIOPRED (Unbiased BIOmarkers in PREDiction of respiratory disease outcomes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4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3D73-404A-4CF7-AE72-008A4EC494A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uropean Lung Foundation"/>
          <p:cNvPicPr/>
          <p:nvPr/>
        </p:nvPicPr>
        <p:blipFill>
          <a:blip r:embed="rId2"/>
          <a:stretch/>
        </p:blipFill>
        <p:spPr>
          <a:xfrm>
            <a:off x="395280" y="1168560"/>
            <a:ext cx="792000" cy="569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248000" y="1974960"/>
            <a:ext cx="457200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1. Reaching international consensus on diagnostic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2. Creating adult/pediatric cohorts and bioban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3. Creating novel biology ‘handprints’ by combining molecular, histological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clinical and patient-reported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4. Validating such ‘handprints’ in relation to exacerbations and disease progr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5. Refining the ‘handprints’ by using preclinical and human exacerbat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6. Predicting efficacy of gold-standard and novel interven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7. Refining the diagnostic criteria and pheno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8. Establishing a platform for exchange, education and dissem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Ontology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1F6-E436-4A29-A794-EEE1A7602B3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13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with Clinical Data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8A9-8F8E-4D08-A2B1-AA2551855C2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3673440" y="1557360"/>
            <a:ext cx="425304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lectronic Data Captu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668400" y="3759120"/>
            <a:ext cx="423792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Standard Vocabularies /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069520" y="3008160"/>
            <a:ext cx="1462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638240" y="2306520"/>
            <a:ext cx="232380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106240" y="4869000"/>
            <a:ext cx="13744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M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738680" y="5591160"/>
            <a:ext cx="212436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KM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"/>
          <p:cNvCxnSpPr>
            <a:stCxn id="175" idx="2"/>
            <a:endCxn id="178" idx="0"/>
          </p:cNvCxnSpPr>
          <p:nvPr/>
        </p:nvCxnSpPr>
        <p:spPr>
          <a:xfrm>
            <a:off x="5800320" y="1925640"/>
            <a:ext cx="1080" cy="381600"/>
          </a:xfrm>
          <a:prstGeom prst="straightConnector1">
            <a:avLst/>
          </a:prstGeom>
          <a:ln w="93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Straight Arrow Connector 11"/>
          <p:cNvCxnSpPr>
            <a:stCxn id="178" idx="2"/>
            <a:endCxn id="177" idx="0"/>
          </p:cNvCxnSpPr>
          <p:nvPr/>
        </p:nvCxnSpPr>
        <p:spPr>
          <a:xfrm flipH="1">
            <a:off x="5799960" y="2676240"/>
            <a:ext cx="1080" cy="33228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83" name="Straight Connector 14"/>
          <p:cNvSpPr/>
          <p:nvPr/>
        </p:nvSpPr>
        <p:spPr>
          <a:xfrm flipH="1">
            <a:off x="5787720" y="3378240"/>
            <a:ext cx="12600" cy="3808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>
            <a:stCxn id="176" idx="2"/>
            <a:endCxn id="179" idx="0"/>
          </p:cNvCxnSpPr>
          <p:nvPr/>
        </p:nvCxnSpPr>
        <p:spPr>
          <a:xfrm>
            <a:off x="5787720" y="4127400"/>
            <a:ext cx="6840" cy="742320"/>
          </a:xfrm>
          <a:prstGeom prst="straightConnector1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</p:cxnSp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380880" y="2214720"/>
            <a:ext cx="292104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Left Brace 10245"/>
          <p:cNvSpPr/>
          <p:nvPr/>
        </p:nvSpPr>
        <p:spPr>
          <a:xfrm>
            <a:off x="3222720" y="1700280"/>
            <a:ext cx="760320" cy="3097080"/>
          </a:xfrm>
          <a:custGeom>
            <a:avLst/>
            <a:gdLst>
              <a:gd name="textAreaLeft" fmla="*/ 485640 w 760320"/>
              <a:gd name="textAreaRight" fmla="*/ 760680 w 760320"/>
              <a:gd name="textAreaTop" fmla="*/ 19800 h 3097080"/>
              <a:gd name="textAreaBottom" fmla="*/ 307728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10358"/>
                </a:lnTo>
                <a:cubicBezTo>
                  <a:pt x="10800" y="10579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Elbow Connector 10247"/>
          <p:cNvCxnSpPr>
            <a:stCxn id="179" idx="1"/>
            <a:endCxn id="185" idx="2"/>
          </p:cNvCxnSpPr>
          <p:nvPr/>
        </p:nvCxnSpPr>
        <p:spPr>
          <a:xfrm rot="10800000">
            <a:off x="1840680" y="4401360"/>
            <a:ext cx="3604320" cy="653400"/>
          </a:xfrm>
          <a:prstGeom prst="bentConnector2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88" name="Straight Arrow Connector 10249"/>
          <p:cNvCxnSpPr>
            <a:stCxn id="179" idx="2"/>
            <a:endCxn id="180" idx="0"/>
          </p:cNvCxnSpPr>
          <p:nvPr/>
        </p:nvCxnSpPr>
        <p:spPr>
          <a:xfrm>
            <a:off x="5794200" y="5238360"/>
            <a:ext cx="7200" cy="3531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mantic 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Based on NCBO (BioPortal Ontologies)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Possible focus: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MLS ( Vocabularies include: CPT®, ICD-10-CM, LOINC®, MeSH®, RxNorm, and SNOMED CT®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TSA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NCBO Human related Phenotype ontologies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Omics ont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BCB-6575-49BB-A745-137EC7AC462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163800" y="11592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DISC Data Model</a:t>
            </a: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DTM : Study Data Tabulation Model 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DaM : Analysis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END:  Standard for Exchange of Nonclinical Data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CDASH Clinical Data Acquisition Standards Harmoniz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: Protocol Represent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TDM: Study/Trial Design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ODM: Operational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LAB:  Laboratory Data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BRIDG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2469-281C-462A-8A2A-92E4805121D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All tools used based on open source community based building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ntinuous interfacing with developing community and regular standards updates will ensure qualit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P3 dedicated to ontologies and standards, led by CDISC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Large collaboration with projects across EU/US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79F-9A3E-4007-8DD2-2A654875782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Standards and terminologies selec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FEA6-128A-49CC-8DE4-DD5D9F6CFB4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4000" y="-24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Legacy data for certain projects / studi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Possible Solution: Development of custom ETL procedures.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Diverse EHR  systems in clinics : not a problem now but EHR will be an ideal addtion to CTM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orking closely with projects like EHR4CR/Euroca /Open Phact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Too many standards and mapping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mmitting to some widely adopted systems   (by IMI projects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Cross projects mapping 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Need terminology mapping services  : learning Semantic Web technology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4C6C-1238-4B59-A9AC-A704673FAF6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73F6-A5F3-4E1C-8808-9C270D9148F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55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www.etrik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None yet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Email: y.guo@imperial.ac.uk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Website: </a:t>
            </a:r>
            <a:r>
              <a:rPr b="0" lang="fr-F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sg.doc.ic.ac.uk</a:t>
            </a: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CCB-EC0C-4D5F-A6B9-EC82EDE4679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Goals &amp; Objectiv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Objective: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rovision of a sustainable KM Platform and Service to support Private/Public Translational Research (TR) in IMI and beyond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ingle access point to standardised curated TR study information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cope: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oud Hosting, KM Platform, Data &amp; Service Standards, Analytics, Curation, and Training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otentially support for any IMI Project involving translation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dget: €23.98m for 5 years (Oct/2012---Sept/2017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52D-08A9-4889-AFBC-DA0FFF1291B1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5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B1C-5526-4333-95FC-A32E77AA506C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bscreativegroup.com/multimedia_content/clients/29282500_logo_efpia.jpg"/>
          <p:cNvPicPr/>
          <p:nvPr/>
        </p:nvPicPr>
        <p:blipFill>
          <a:blip r:embed="rId1"/>
          <a:srcRect l="0" t="19973" r="0" b="26676"/>
          <a:stretch/>
        </p:blipFill>
        <p:spPr>
          <a:xfrm>
            <a:off x="5756400" y="1022400"/>
            <a:ext cx="809640" cy="431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655640" y="1071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temple-ais.org/wp-content/uploads/2012/02/AZ_Logo1.jpg"/>
          <p:cNvPicPr/>
          <p:nvPr/>
        </p:nvPicPr>
        <p:blipFill>
          <a:blip r:embed="rId2"/>
          <a:stretch/>
        </p:blipFill>
        <p:spPr>
          <a:xfrm>
            <a:off x="5545080" y="1595520"/>
            <a:ext cx="1604880" cy="41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s://contactus.sanofi-aventis.us/images/corpologo.jpg"/>
          <p:cNvPicPr/>
          <p:nvPr/>
        </p:nvPicPr>
        <p:blipFill>
          <a:blip r:embed="rId3"/>
          <a:stretch/>
        </p:blipFill>
        <p:spPr>
          <a:xfrm>
            <a:off x="5699160" y="2595600"/>
            <a:ext cx="1123920" cy="2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patientexperiencenetwork.org/Assets/Images/hotspot_roche.gif.jpg"/>
          <p:cNvPicPr/>
          <p:nvPr/>
        </p:nvPicPr>
        <p:blipFill>
          <a:blip r:embed="rId4"/>
          <a:stretch/>
        </p:blipFill>
        <p:spPr>
          <a:xfrm>
            <a:off x="5965920" y="5511960"/>
            <a:ext cx="627120" cy="32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vaccinenewsdaily.com/wp-content/uploads/2013/01/Pfizer.gif"/>
          <p:cNvPicPr/>
          <p:nvPr/>
        </p:nvPicPr>
        <p:blipFill>
          <a:blip r:embed="rId5"/>
          <a:stretch/>
        </p:blipFill>
        <p:spPr>
          <a:xfrm>
            <a:off x="5908680" y="4294080"/>
            <a:ext cx="671400" cy="4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http://www.presseportal.ch/fr/bild/100007499-logo-merck-serono.jpg"/>
          <p:cNvPicPr/>
          <p:nvPr/>
        </p:nvPicPr>
        <p:blipFill>
          <a:blip r:embed="rId6"/>
          <a:stretch/>
        </p:blipFill>
        <p:spPr>
          <a:xfrm>
            <a:off x="5843520" y="3754440"/>
            <a:ext cx="698400" cy="49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http://2.bp.blogspot.com/-GnSrs5HTnZQ/UIe-o507wAI/AAAAAAAAbiE/YV5h17J8d5E/s1600/LundbeckLogo.jpg"/>
          <p:cNvPicPr/>
          <p:nvPr/>
        </p:nvPicPr>
        <p:blipFill>
          <a:blip r:embed="rId7"/>
          <a:stretch/>
        </p:blipFill>
        <p:spPr>
          <a:xfrm>
            <a:off x="5575320" y="4821120"/>
            <a:ext cx="1301760" cy="51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t2.gstatic.com/images?q=tbn:ANd9GcSltEeKA4h1RY5-pUxwQNoD9DnXaX5JW2La-6yKbX8WJkAJ95StDJqK1YE"/>
          <p:cNvPicPr/>
          <p:nvPr/>
        </p:nvPicPr>
        <p:blipFill>
          <a:blip r:embed="rId8"/>
          <a:srcRect l="0" t="18986" r="0" b="12285"/>
          <a:stretch/>
        </p:blipFill>
        <p:spPr>
          <a:xfrm>
            <a:off x="5715000" y="2043000"/>
            <a:ext cx="1162080" cy="50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http://www.bse.com.au/wp-content/uploads/2011/12/gsk.jpg"/>
          <p:cNvPicPr/>
          <p:nvPr/>
        </p:nvPicPr>
        <p:blipFill>
          <a:blip r:embed="rId9"/>
          <a:stretch/>
        </p:blipFill>
        <p:spPr>
          <a:xfrm>
            <a:off x="5756400" y="2978280"/>
            <a:ext cx="104760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http://www.jagsreport.com/logos/logo_eli_lilly.jpg"/>
          <p:cNvPicPr/>
          <p:nvPr/>
        </p:nvPicPr>
        <p:blipFill>
          <a:blip r:embed="rId10"/>
          <a:stretch/>
        </p:blipFill>
        <p:spPr>
          <a:xfrm>
            <a:off x="5773680" y="3359160"/>
            <a:ext cx="839880" cy="5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11"/>
          <a:srcRect l="3203" t="27447" r="73402" b="27447"/>
          <a:stretch/>
        </p:blipFill>
        <p:spPr>
          <a:xfrm>
            <a:off x="1743120" y="567540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12"/>
          <a:stretch/>
        </p:blipFill>
        <p:spPr>
          <a:xfrm>
            <a:off x="1962000" y="5340240"/>
            <a:ext cx="554040" cy="3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http://2011.igem.org/wiki/images/1/19/ImperialLogo.png"/>
          <p:cNvPicPr/>
          <p:nvPr/>
        </p:nvPicPr>
        <p:blipFill>
          <a:blip r:embed="rId13"/>
          <a:stretch/>
        </p:blipFill>
        <p:spPr>
          <a:xfrm>
            <a:off x="1668600" y="1819440"/>
            <a:ext cx="1409400" cy="36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http://soc.kuleuven.be/ceso/impalla/images/LOGO's/uniLux_logo_5000dpi.jpg"/>
          <p:cNvPicPr/>
          <p:nvPr/>
        </p:nvPicPr>
        <p:blipFill>
          <a:blip r:embed="rId14"/>
          <a:stretch/>
        </p:blipFill>
        <p:spPr>
          <a:xfrm>
            <a:off x="1928880" y="2438280"/>
            <a:ext cx="8049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http://www.lsce.ipsl.fr/Images/logos/logo_CNRS.png"/>
          <p:cNvPicPr/>
          <p:nvPr/>
        </p:nvPicPr>
        <p:blipFill>
          <a:blip r:embed="rId15"/>
          <a:stretch/>
        </p:blipFill>
        <p:spPr>
          <a:xfrm>
            <a:off x="2090880" y="32320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187280" y="1623960"/>
            <a:ext cx="2448000" cy="2443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148360" y="1533600"/>
            <a:ext cx="2160360" cy="4468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1839600" y="4357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477800" y="4857840"/>
            <a:ext cx="1511640" cy="111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4" descr="http://www.cdisc.org/stuff/contentmgr/files/0/5a40f4e50f3fc649ccc13a075b17b74c/thumb/idbs_logo.jpg"/>
          <p:cNvPicPr/>
          <p:nvPr/>
        </p:nvPicPr>
        <p:blipFill>
          <a:blip r:embed="rId16"/>
          <a:stretch/>
        </p:blipFill>
        <p:spPr>
          <a:xfrm>
            <a:off x="1920960" y="4884840"/>
            <a:ext cx="693720" cy="41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Deliverable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KM support for IMI (and other PPP) projects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Access to fit-for-purpose, secure, easy-access, standardised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KM services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 (for ongoing cross-organisation TR study support)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Hosting / installation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Curation workflow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Data Mgmt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ingle point of access to curated historic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study data on the cloud 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ustainable, interoperable, collaborative, re-usable, open sourc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platform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, based on open, agreed standards, used and contributed to by global research community.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Development of an active TR analytics &amp; informatics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68360" y="57038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R Informatics Standard and Centralized  Data Clou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51280" y="2276640"/>
            <a:ext cx="4824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alytic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ur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tandards build and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KM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: Linking the Two Worl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E4B-BFE7-4E84-8087-BEE5E02D3F8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476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476360" y="56023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ttee on A Framework for Developing a New Taxonomy of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TRIKS Architectur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450-1C5E-4FD1-8C68-4BC9BFF7823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11360" y="1341360"/>
            <a:ext cx="7613640" cy="4549680"/>
            <a:chOff x="711360" y="1341360"/>
            <a:chExt cx="7613640" cy="4549680"/>
          </a:xfrm>
        </p:grpSpPr>
        <p:sp>
          <p:nvSpPr>
            <p:cNvPr id="141" name="AutoShape 3"/>
            <p:cNvSpPr/>
            <p:nvPr/>
          </p:nvSpPr>
          <p:spPr>
            <a:xfrm>
              <a:off x="711360" y="1341360"/>
              <a:ext cx="7607520" cy="45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711360" y="1341360"/>
              <a:ext cx="7613640" cy="45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7"/>
          <p:cNvSpPr/>
          <p:nvPr/>
        </p:nvSpPr>
        <p:spPr>
          <a:xfrm>
            <a:off x="3203640" y="3500280"/>
            <a:ext cx="468144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Study Data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5A9E-88E4-4C31-B2D0-260F566F8AA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366920"/>
            <a:ext cx="7296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Curation: Building Conten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B89-ED5F-4694-B6E0-489DAB28517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71520" y="1268280"/>
            <a:ext cx="84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Data Cura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8F96-7320-4697-AEFD-CD1D7977F01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3124080" cy="217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472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613560" y="1844640"/>
            <a:ext cx="2386080" cy="315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6613560" y="1484280"/>
            <a:ext cx="2386080" cy="4537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6732720" y="5084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ART-ba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RIKS Study Data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yg</cp:lastModifiedBy>
  <dcterms:modified xsi:type="dcterms:W3CDTF">2013-01-22T15:30:58Z</dcterms:modified>
  <cp:revision>219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